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896A1-985E-4713-81D8-CCAD37A31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7A9C6-EB27-4FA8-ACB4-F65C4E8308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E0847-F198-4CAE-BA6D-4563DC083A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3E4B0-CA77-47D8-B3EF-FFD1CB522B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4C193-D2F3-4D80-A6C5-99A3610302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BA78D-C8E0-4184-9A33-2802B9A636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AB370-3A11-4D47-A0AE-665D4F4911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69E86-406F-45EF-9144-986A4DF402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6497E-FF0F-462B-B7E6-F7382DF207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ECE7D-134A-479C-BD16-FBCC9D7412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BF3B0-C194-4E95-A7F8-9AC5DD2C50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750E8-803D-4FE6-B0CC-DB9DB53CD6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0C6CB-A42F-4C2B-B13C-CE6B41F546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136D3-2976-4FA2-A066-CB6A35E0B8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17476-A61F-44D8-8D4B-60F6998E2F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61074-C0AE-4E07-A6C8-C5F02B44D5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3C4D3-9A2B-42B4-836F-344F82A6AA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777A8-71DE-46C8-854A-7866C4C969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011AC-801C-4994-B09D-8ADF9670AD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BBA96-0215-4E7A-9552-CB2658E4E7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71092-2924-4F4D-A4B1-D4634A9CC6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826BB-F217-495D-B32C-A67B133611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00988-653C-4F34-A744-8CD5CC9B21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9B1FE-B7CE-4640-84B1-5573D3291A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E5D71-7ED2-4F92-9062-BA4B9F8CF1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44C04-B3DB-4355-8FD5-D005BD7AB9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108FF-A97C-4DAC-A9BE-F5F632FA47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BF1D6-AB6D-4266-910B-67846A8407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8CCE2-419F-4F76-AA4E-A23A0C3035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C8AF5-DFA1-4A50-AF13-1CCF0A8B23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1F331-1DE0-48AC-B9B1-B13E433EC9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672E5-9F07-4973-B528-55FF2231E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FCA52-7BD9-491C-84E8-AB7A72286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5B4D1-F2CE-473D-92CB-A41321A34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C5E90-EDCA-4EA5-8733-4333B7180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E6D19-4755-4469-85F0-F3B152DFA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0EE85-4AD6-4E92-88A5-DDFC01A6B1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A65C7-8906-41C9-A920-990E9D9B9C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32887-3F60-4D84-A166-65873E4119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5715E-DC4C-4ABD-8553-D11293713A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1937D-9664-4955-9DF0-02E0DF2B82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D0DAB-3068-4E00-A805-8B11D213A8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9CC63-FA97-4696-9BBA-9786F9D6CA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06285-31D0-48BB-83F5-E996EA93BB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6C653-7C59-405C-83B4-DE45483A5B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BAC58-08F4-4DC8-9DA7-8CB593FD35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99863-CC85-48A4-9F35-F70520AECC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B53AA-3545-4738-9B74-35DC080E67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01364-51FE-49DA-A147-79C6705F9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32713-4F02-457C-85F7-9C1FD56AC0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71FD4-7C34-48B9-A034-C535B6905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FA553-C269-4F44-A5C0-15C61677C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E15DC-A31F-455A-9BCC-12501FA82C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6D034-4517-4161-850D-07E418AB5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62FA-3277-4FAD-96E4-F36135D4C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6210A-9D7B-456E-95B3-1192EB9A7D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286A9159-688A-421D-8D42-55E0E9CC1E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657600" y="5105520"/>
            <a:ext cx="4800600" cy="119988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Indirectly Associating Parameter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 translation (e.g. units) is demonstrated  between the associated parameter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30492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In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1981080" y="1143000"/>
            <a:ext cx="5410440" cy="1066680"/>
            <a:chOff x="1981080" y="1143000"/>
            <a:chExt cx="5410440" cy="1066680"/>
          </a:xfrm>
        </p:grpSpPr>
        <p:sp>
          <p:nvSpPr>
            <p:cNvPr id="188" name="AutoShape 23"/>
            <p:cNvSpPr/>
            <p:nvPr/>
          </p:nvSpPr>
          <p:spPr>
            <a:xfrm>
              <a:off x="1981080" y="1143000"/>
              <a:ext cx="5410440" cy="685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the handles of the of the owner modules’ parameters with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he configuration broker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200400" y="1838160"/>
              <a:ext cx="236232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220760" y="320040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220760" y="371016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6200" y="236232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48"/>
          <p:cNvGrpSpPr/>
          <p:nvPr/>
        </p:nvGrpSpPr>
        <p:grpSpPr>
          <a:xfrm>
            <a:off x="609480" y="3048120"/>
            <a:ext cx="7925040" cy="1403280"/>
            <a:chOff x="609480" y="3048120"/>
            <a:chExt cx="7925040" cy="1403280"/>
          </a:xfrm>
        </p:grpSpPr>
        <p:sp>
          <p:nvSpPr>
            <p:cNvPr id="210" name="AutoShape 23"/>
            <p:cNvSpPr/>
            <p:nvPr/>
          </p:nvSpPr>
          <p:spPr>
            <a:xfrm>
              <a:off x="609480" y="3048120"/>
              <a:ext cx="7925040" cy="9903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62240" y="4146480"/>
              <a:ext cx="2743200" cy="304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_with_cf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2762640" y="1331640"/>
            <a:ext cx="4152240" cy="878040"/>
            <a:chOff x="2762640" y="1331640"/>
            <a:chExt cx="4152240" cy="878040"/>
          </a:xfrm>
        </p:grpSpPr>
        <p:sp>
          <p:nvSpPr>
            <p:cNvPr id="214" name="AutoShape 23"/>
            <p:cNvSpPr/>
            <p:nvPr/>
          </p:nvSpPr>
          <p:spPr>
            <a:xfrm>
              <a:off x="2762640" y="1331640"/>
              <a:ext cx="415224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parameter hand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352680" y="1837800"/>
              <a:ext cx="2362320" cy="3718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379240" y="2437560"/>
            <a:ext cx="491904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parameters using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_cf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2895480" y="3200400"/>
            <a:ext cx="541044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write it’s default valu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o the other cci-parameter using set_cci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762120" y="320040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th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artup value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4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1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2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3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4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5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6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7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48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49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0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1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2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3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4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AutoShape 23"/>
          <p:cNvSpPr/>
          <p:nvPr/>
        </p:nvSpPr>
        <p:spPr>
          <a:xfrm>
            <a:off x="667080" y="3351600"/>
            <a:ext cx="79621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677880" y="2308320"/>
            <a:ext cx="7856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the values of parameter of the two own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WithCF(cci::cci_param_handle _param_handle_1, cci::cci_param_handle _param_handle_2,  double conversion_factor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58" name="Curved Connector 10"/>
          <p:cNvCxnSpPr>
            <a:stCxn id="254" idx="0"/>
            <a:endCxn id="255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59" name="AutoShape 6"/>
          <p:cNvSpPr/>
          <p:nvPr/>
        </p:nvSpPr>
        <p:spPr>
          <a:xfrm>
            <a:off x="3298680" y="4143240"/>
            <a:ext cx="251316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0" name="Curved Connector 10"/>
          <p:cNvCxnSpPr>
            <a:stCxn id="261" idx="4"/>
            <a:endCxn id="245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2" name="Group 54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3" name="AutoShape 15"/>
            <p:cNvSpPr/>
            <p:nvPr/>
          </p:nvSpPr>
          <p:spPr>
            <a:xfrm>
              <a:off x="6934320" y="464832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1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4" name="Rectangle 53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6" name="Group 40"/>
          <p:cNvGrpSpPr/>
          <p:nvPr/>
        </p:nvGrpSpPr>
        <p:grpSpPr>
          <a:xfrm>
            <a:off x="2147760" y="1121760"/>
            <a:ext cx="4772520" cy="876960"/>
            <a:chOff x="2147760" y="1121760"/>
            <a:chExt cx="4772520" cy="876960"/>
          </a:xfrm>
        </p:grpSpPr>
        <p:sp>
          <p:nvSpPr>
            <p:cNvPr id="267" name="AutoShape 5"/>
            <p:cNvSpPr/>
            <p:nvPr/>
          </p:nvSpPr>
          <p:spPr>
            <a:xfrm>
              <a:off x="3374640" y="1622160"/>
              <a:ext cx="2362680" cy="3765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8" name="AutoShape 23"/>
            <p:cNvSpPr/>
            <p:nvPr/>
          </p:nvSpPr>
          <p:spPr>
            <a:xfrm>
              <a:off x="2147760" y="1121760"/>
              <a:ext cx="477252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handles of the parameter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58"/>
          <p:cNvGrpSpPr/>
          <p:nvPr/>
        </p:nvGrpSpPr>
        <p:grpSpPr>
          <a:xfrm>
            <a:off x="76320" y="3274920"/>
            <a:ext cx="8961480" cy="2551320"/>
            <a:chOff x="76320" y="3274920"/>
            <a:chExt cx="8961480" cy="2551320"/>
          </a:xfrm>
        </p:grpSpPr>
        <p:grpSp>
          <p:nvGrpSpPr>
            <p:cNvPr id="270" name="Group 49"/>
            <p:cNvGrpSpPr/>
            <p:nvPr/>
          </p:nvGrpSpPr>
          <p:grpSpPr>
            <a:xfrm>
              <a:off x="76320" y="3274920"/>
              <a:ext cx="8961480" cy="2551320"/>
              <a:chOff x="76320" y="3274920"/>
              <a:chExt cx="8961480" cy="25513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4920"/>
                <a:ext cx="8961480" cy="2551320"/>
                <a:chOff x="76320" y="3274920"/>
                <a:chExt cx="8961480" cy="25513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4920"/>
                  <a:ext cx="8961480" cy="2551320"/>
                  <a:chOff x="76320" y="3274920"/>
                  <a:chExt cx="8961480" cy="2551320"/>
                </a:xfrm>
              </p:grpSpPr>
              <p:grpSp>
                <p:nvGrpSpPr>
                  <p:cNvPr id="273" name="Group 1"/>
                  <p:cNvGrpSpPr/>
                  <p:nvPr/>
                </p:nvGrpSpPr>
                <p:grpSpPr>
                  <a:xfrm>
                    <a:off x="76320" y="3274920"/>
                    <a:ext cx="8961480" cy="2551320"/>
                    <a:chOff x="76320" y="3274920"/>
                    <a:chExt cx="8961480" cy="2551320"/>
                  </a:xfrm>
                </p:grpSpPr>
                <p:sp>
                  <p:nvSpPr>
                    <p:cNvPr id="274" name="AutoShape 3"/>
                    <p:cNvSpPr/>
                    <p:nvPr/>
                  </p:nvSpPr>
                  <p:spPr>
                    <a:xfrm>
                      <a:off x="76320" y="327492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5" name="AutoShape 8"/>
                    <p:cNvSpPr/>
                    <p:nvPr/>
                  </p:nvSpPr>
                  <p:spPr>
                    <a:xfrm>
                      <a:off x="3789360" y="53161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6" name="Group 32"/>
                  <p:cNvGrpSpPr/>
                  <p:nvPr/>
                </p:nvGrpSpPr>
                <p:grpSpPr>
                  <a:xfrm>
                    <a:off x="304920" y="4070520"/>
                    <a:ext cx="4030560" cy="963360"/>
                    <a:chOff x="304920" y="4070520"/>
                    <a:chExt cx="4030560" cy="963360"/>
                  </a:xfrm>
                </p:grpSpPr>
                <p:grpSp>
                  <p:nvGrpSpPr>
                    <p:cNvPr id="277" name="Group 29"/>
                    <p:cNvGrpSpPr/>
                    <p:nvPr/>
                  </p:nvGrpSpPr>
                  <p:grpSpPr>
                    <a:xfrm>
                      <a:off x="304920" y="4070520"/>
                      <a:ext cx="4030560" cy="523800"/>
                      <a:chOff x="304920" y="4070520"/>
                      <a:chExt cx="4030560" cy="523800"/>
                    </a:xfrm>
                  </p:grpSpPr>
                  <p:sp>
                    <p:nvSpPr>
                      <p:cNvPr id="278" name="AutoShape 11"/>
                      <p:cNvSpPr/>
                      <p:nvPr/>
                    </p:nvSpPr>
                    <p:spPr>
                      <a:xfrm>
                        <a:off x="304920" y="407052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79" name="Group 28"/>
                      <p:cNvGrpSpPr/>
                      <p:nvPr/>
                    </p:nvGrpSpPr>
                    <p:grpSpPr>
                      <a:xfrm>
                        <a:off x="449280" y="4169880"/>
                        <a:ext cx="3741840" cy="293400"/>
                        <a:chOff x="449280" y="4169880"/>
                        <a:chExt cx="3741840" cy="293400"/>
                      </a:xfrm>
                    </p:grpSpPr>
                    <p:sp>
                      <p:nvSpPr>
                        <p:cNvPr id="280" name="AutoShape 12"/>
                        <p:cNvSpPr/>
                        <p:nvPr/>
                      </p:nvSpPr>
                      <p:spPr>
                        <a:xfrm>
                          <a:off x="449280" y="416988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1" name="AutoShape 15"/>
                        <p:cNvSpPr/>
                        <p:nvPr/>
                      </p:nvSpPr>
                      <p:spPr>
                        <a:xfrm>
                          <a:off x="2362320" y="416988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2" name="AutoShape 6"/>
                    <p:cNvSpPr/>
                    <p:nvPr/>
                  </p:nvSpPr>
                  <p:spPr>
                    <a:xfrm>
                      <a:off x="122076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83" name="Group 2"/>
                  <p:cNvGrpSpPr/>
                  <p:nvPr/>
                </p:nvGrpSpPr>
                <p:grpSpPr>
                  <a:xfrm>
                    <a:off x="4419720" y="4070520"/>
                    <a:ext cx="4411440" cy="963360"/>
                    <a:chOff x="4419720" y="4070520"/>
                    <a:chExt cx="4411440" cy="963360"/>
                  </a:xfrm>
                </p:grpSpPr>
                <p:grpSp>
                  <p:nvGrpSpPr>
                    <p:cNvPr id="284" name="Group 31"/>
                    <p:cNvGrpSpPr/>
                    <p:nvPr/>
                  </p:nvGrpSpPr>
                  <p:grpSpPr>
                    <a:xfrm>
                      <a:off x="4419720" y="4070520"/>
                      <a:ext cx="4411440" cy="523800"/>
                      <a:chOff x="4419720" y="4070520"/>
                      <a:chExt cx="4411440" cy="523800"/>
                    </a:xfrm>
                  </p:grpSpPr>
                  <p:sp>
                    <p:nvSpPr>
                      <p:cNvPr id="285" name="AutoShape 11"/>
                      <p:cNvSpPr/>
                      <p:nvPr/>
                    </p:nvSpPr>
                    <p:spPr>
                      <a:xfrm>
                        <a:off x="4419720" y="407052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86" name="Group 30"/>
                      <p:cNvGrpSpPr/>
                      <p:nvPr/>
                    </p:nvGrpSpPr>
                    <p:grpSpPr>
                      <a:xfrm>
                        <a:off x="4556160" y="4145040"/>
                        <a:ext cx="4275000" cy="335160"/>
                        <a:chOff x="4556160" y="4145040"/>
                        <a:chExt cx="4275000" cy="335160"/>
                      </a:xfrm>
                    </p:grpSpPr>
                    <p:sp>
                      <p:nvSpPr>
                        <p:cNvPr id="287" name="AutoShape 12"/>
                        <p:cNvSpPr/>
                        <p:nvPr/>
                      </p:nvSpPr>
                      <p:spPr>
                        <a:xfrm>
                          <a:off x="4556160" y="414504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8" name="AutoShape 15"/>
                        <p:cNvSpPr/>
                        <p:nvPr/>
                      </p:nvSpPr>
                      <p:spPr>
                        <a:xfrm>
                          <a:off x="6850080" y="414504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9" name="AutoShape 6"/>
                    <p:cNvSpPr/>
                    <p:nvPr/>
                  </p:nvSpPr>
                  <p:spPr>
                    <a:xfrm>
                      <a:off x="571644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290" name="Oval 25"/>
                <p:cNvSpPr/>
                <p:nvPr/>
              </p:nvSpPr>
              <p:spPr>
                <a:xfrm>
                  <a:off x="380880" y="410040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91" name="Oval 26"/>
                <p:cNvSpPr/>
                <p:nvPr/>
              </p:nvSpPr>
              <p:spPr>
                <a:xfrm>
                  <a:off x="4495680" y="414648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2" name="Group 48"/>
              <p:cNvGrpSpPr/>
              <p:nvPr/>
            </p:nvGrpSpPr>
            <p:grpSpPr>
              <a:xfrm>
                <a:off x="1409400" y="3429000"/>
                <a:ext cx="4264200" cy="704880"/>
                <a:chOff x="1409400" y="3429000"/>
                <a:chExt cx="4264200" cy="704880"/>
              </a:xfrm>
            </p:grpSpPr>
            <p:cxnSp>
              <p:nvCxnSpPr>
                <p:cNvPr id="293" name="Curved Connector 10"/>
                <p:cNvCxnSpPr>
                  <a:stCxn id="290" idx="0"/>
                  <a:endCxn id="294" idx="1"/>
                </p:cNvCxnSpPr>
                <p:nvPr/>
              </p:nvCxnSpPr>
              <p:spPr>
                <a:xfrm flipH="1" flipV="1" rot="5400000">
                  <a:off x="1937160" y="305280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294" name="AutoShape 15"/>
                <p:cNvSpPr/>
                <p:nvPr/>
              </p:nvSpPr>
              <p:spPr>
                <a:xfrm>
                  <a:off x="2971800" y="342900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295" name="Curved Connector 10"/>
                <p:cNvCxnSpPr>
                  <a:stCxn id="294" idx="3"/>
                  <a:endCxn id="291" idx="0"/>
                </p:cNvCxnSpPr>
                <p:nvPr/>
              </p:nvCxnSpPr>
              <p:spPr>
                <a:xfrm>
                  <a:off x="4800240" y="358092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296" name="AutoShape 15"/>
            <p:cNvSpPr/>
            <p:nvPr/>
          </p:nvSpPr>
          <p:spPr>
            <a:xfrm>
              <a:off x="7010280" y="4191120"/>
              <a:ext cx="167652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7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8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9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0" name="Curved Connector 9"/>
          <p:cNvCxnSpPr>
            <a:stCxn id="299" idx="1"/>
            <a:endCxn id="290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1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2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3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04" name="Group 42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5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7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8" name="AutoShape 45"/>
          <p:cNvCxnSpPr>
            <a:stCxn id="294" idx="0"/>
            <a:endCxn id="307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Rectangle 6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133"/>
          <p:cNvGrpSpPr/>
          <p:nvPr/>
        </p:nvGrpSpPr>
        <p:grpSpPr>
          <a:xfrm>
            <a:off x="76320" y="3595680"/>
            <a:ext cx="8961480" cy="2592360"/>
            <a:chOff x="76320" y="3595680"/>
            <a:chExt cx="8961480" cy="2592360"/>
          </a:xfrm>
        </p:grpSpPr>
        <p:grpSp>
          <p:nvGrpSpPr>
            <p:cNvPr id="312" name="Group 102"/>
            <p:cNvGrpSpPr/>
            <p:nvPr/>
          </p:nvGrpSpPr>
          <p:grpSpPr>
            <a:xfrm>
              <a:off x="76320" y="3595680"/>
              <a:ext cx="8961480" cy="2592360"/>
              <a:chOff x="76320" y="3595680"/>
              <a:chExt cx="8961480" cy="2592360"/>
            </a:xfrm>
          </p:grpSpPr>
          <p:grpSp>
            <p:nvGrpSpPr>
              <p:cNvPr id="313" name="Group 103"/>
              <p:cNvGrpSpPr/>
              <p:nvPr/>
            </p:nvGrpSpPr>
            <p:grpSpPr>
              <a:xfrm>
                <a:off x="76320" y="3595680"/>
                <a:ext cx="8961480" cy="2592360"/>
                <a:chOff x="76320" y="3595680"/>
                <a:chExt cx="8961480" cy="2592360"/>
              </a:xfrm>
            </p:grpSpPr>
            <p:grpSp>
              <p:nvGrpSpPr>
                <p:cNvPr id="314" name="Group 104"/>
                <p:cNvGrpSpPr/>
                <p:nvPr/>
              </p:nvGrpSpPr>
              <p:grpSpPr>
                <a:xfrm>
                  <a:off x="76320" y="3595680"/>
                  <a:ext cx="8961480" cy="2592360"/>
                  <a:chOff x="76320" y="3595680"/>
                  <a:chExt cx="8961480" cy="2592360"/>
                </a:xfrm>
              </p:grpSpPr>
              <p:grpSp>
                <p:nvGrpSpPr>
                  <p:cNvPr id="315" name="Group 1"/>
                  <p:cNvGrpSpPr/>
                  <p:nvPr/>
                </p:nvGrpSpPr>
                <p:grpSpPr>
                  <a:xfrm>
                    <a:off x="76320" y="3595680"/>
                    <a:ext cx="8961480" cy="2592360"/>
                    <a:chOff x="76320" y="3595680"/>
                    <a:chExt cx="8961480" cy="2592360"/>
                  </a:xfrm>
                </p:grpSpPr>
                <p:sp>
                  <p:nvSpPr>
                    <p:cNvPr id="316" name="AutoShape 3"/>
                    <p:cNvSpPr/>
                    <p:nvPr/>
                  </p:nvSpPr>
                  <p:spPr>
                    <a:xfrm>
                      <a:off x="76320" y="359568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7" name="AutoShape 8"/>
                    <p:cNvSpPr/>
                    <p:nvPr/>
                  </p:nvSpPr>
                  <p:spPr>
                    <a:xfrm>
                      <a:off x="3466440" y="56779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18" name="Group 32"/>
                  <p:cNvGrpSpPr/>
                  <p:nvPr/>
                </p:nvGrpSpPr>
                <p:grpSpPr>
                  <a:xfrm>
                    <a:off x="304920" y="4391280"/>
                    <a:ext cx="4030560" cy="963360"/>
                    <a:chOff x="304920" y="4391280"/>
                    <a:chExt cx="4030560" cy="963360"/>
                  </a:xfrm>
                </p:grpSpPr>
                <p:grpSp>
                  <p:nvGrpSpPr>
                    <p:cNvPr id="319" name="Group 29"/>
                    <p:cNvGrpSpPr/>
                    <p:nvPr/>
                  </p:nvGrpSpPr>
                  <p:grpSpPr>
                    <a:xfrm>
                      <a:off x="304920" y="4391280"/>
                      <a:ext cx="4030560" cy="523800"/>
                      <a:chOff x="304920" y="4391280"/>
                      <a:chExt cx="4030560" cy="523800"/>
                    </a:xfrm>
                  </p:grpSpPr>
                  <p:sp>
                    <p:nvSpPr>
                      <p:cNvPr id="320" name="AutoShape 11"/>
                      <p:cNvSpPr/>
                      <p:nvPr/>
                    </p:nvSpPr>
                    <p:spPr>
                      <a:xfrm>
                        <a:off x="304920" y="439128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1" name="Group 28"/>
                      <p:cNvGrpSpPr/>
                      <p:nvPr/>
                    </p:nvGrpSpPr>
                    <p:grpSpPr>
                      <a:xfrm>
                        <a:off x="449280" y="4490640"/>
                        <a:ext cx="3741840" cy="293400"/>
                        <a:chOff x="449280" y="4490640"/>
                        <a:chExt cx="3741840" cy="293400"/>
                      </a:xfrm>
                    </p:grpSpPr>
                    <p:sp>
                      <p:nvSpPr>
                        <p:cNvPr id="322" name="AutoShape 12"/>
                        <p:cNvSpPr/>
                        <p:nvPr/>
                      </p:nvSpPr>
                      <p:spPr>
                        <a:xfrm>
                          <a:off x="449280" y="449064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3" name="AutoShape 15"/>
                        <p:cNvSpPr/>
                        <p:nvPr/>
                      </p:nvSpPr>
                      <p:spPr>
                        <a:xfrm>
                          <a:off x="2362320" y="449064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4" name="AutoShape 6"/>
                    <p:cNvSpPr/>
                    <p:nvPr/>
                  </p:nvSpPr>
                  <p:spPr>
                    <a:xfrm>
                      <a:off x="122076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25" name="Group 2"/>
                  <p:cNvGrpSpPr/>
                  <p:nvPr/>
                </p:nvGrpSpPr>
                <p:grpSpPr>
                  <a:xfrm>
                    <a:off x="4419720" y="4391280"/>
                    <a:ext cx="4411440" cy="963360"/>
                    <a:chOff x="4419720" y="4391280"/>
                    <a:chExt cx="4411440" cy="963360"/>
                  </a:xfrm>
                </p:grpSpPr>
                <p:grpSp>
                  <p:nvGrpSpPr>
                    <p:cNvPr id="326" name="Group 31"/>
                    <p:cNvGrpSpPr/>
                    <p:nvPr/>
                  </p:nvGrpSpPr>
                  <p:grpSpPr>
                    <a:xfrm>
                      <a:off x="4419720" y="4391280"/>
                      <a:ext cx="4411440" cy="523800"/>
                      <a:chOff x="4419720" y="4391280"/>
                      <a:chExt cx="4411440" cy="523800"/>
                    </a:xfrm>
                  </p:grpSpPr>
                  <p:sp>
                    <p:nvSpPr>
                      <p:cNvPr id="327" name="AutoShape 11"/>
                      <p:cNvSpPr/>
                      <p:nvPr/>
                    </p:nvSpPr>
                    <p:spPr>
                      <a:xfrm>
                        <a:off x="4419720" y="439128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8" name="Group 30"/>
                      <p:cNvGrpSpPr/>
                      <p:nvPr/>
                    </p:nvGrpSpPr>
                    <p:grpSpPr>
                      <a:xfrm>
                        <a:off x="4556160" y="4465800"/>
                        <a:ext cx="4275000" cy="335160"/>
                        <a:chOff x="4556160" y="4465800"/>
                        <a:chExt cx="4275000" cy="335160"/>
                      </a:xfrm>
                    </p:grpSpPr>
                    <p:sp>
                      <p:nvSpPr>
                        <p:cNvPr id="329" name="AutoShape 12"/>
                        <p:cNvSpPr/>
                        <p:nvPr/>
                      </p:nvSpPr>
                      <p:spPr>
                        <a:xfrm>
                          <a:off x="4556160" y="446580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30" name="AutoShape 15"/>
                        <p:cNvSpPr/>
                        <p:nvPr/>
                      </p:nvSpPr>
                      <p:spPr>
                        <a:xfrm>
                          <a:off x="6850080" y="446580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1" name="AutoShape 6"/>
                    <p:cNvSpPr/>
                    <p:nvPr/>
                  </p:nvSpPr>
                  <p:spPr>
                    <a:xfrm>
                      <a:off x="571644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332" name="Oval 25"/>
                <p:cNvSpPr/>
                <p:nvPr/>
              </p:nvSpPr>
              <p:spPr>
                <a:xfrm>
                  <a:off x="380880" y="44211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33" name="Oval 26"/>
                <p:cNvSpPr/>
                <p:nvPr/>
              </p:nvSpPr>
              <p:spPr>
                <a:xfrm>
                  <a:off x="4495680" y="446724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4" name="Group 124"/>
              <p:cNvGrpSpPr/>
              <p:nvPr/>
            </p:nvGrpSpPr>
            <p:grpSpPr>
              <a:xfrm>
                <a:off x="1409400" y="3749760"/>
                <a:ext cx="4264200" cy="704880"/>
                <a:chOff x="1409400" y="3749760"/>
                <a:chExt cx="4264200" cy="704880"/>
              </a:xfrm>
            </p:grpSpPr>
            <p:cxnSp>
              <p:nvCxnSpPr>
                <p:cNvPr id="335" name="Curved Connector 10"/>
                <p:cNvCxnSpPr>
                  <a:stCxn id="332" idx="0"/>
                  <a:endCxn id="336" idx="1"/>
                </p:cNvCxnSpPr>
                <p:nvPr/>
              </p:nvCxnSpPr>
              <p:spPr>
                <a:xfrm flipH="1" flipV="1" rot="5400000">
                  <a:off x="1937160" y="33735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36" name="AutoShape 15"/>
                <p:cNvSpPr/>
                <p:nvPr/>
              </p:nvSpPr>
              <p:spPr>
                <a:xfrm>
                  <a:off x="2971800" y="37497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37" name="Curved Connector 10"/>
                <p:cNvCxnSpPr>
                  <a:stCxn id="336" idx="3"/>
                  <a:endCxn id="333" idx="0"/>
                </p:cNvCxnSpPr>
                <p:nvPr/>
              </p:nvCxnSpPr>
              <p:spPr>
                <a:xfrm>
                  <a:off x="4800240" y="39016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38" name="AutoShape 15"/>
            <p:cNvSpPr/>
            <p:nvPr/>
          </p:nvSpPr>
          <p:spPr>
            <a:xfrm>
              <a:off x="6858000" y="44974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AutoShape 15"/>
            <p:cNvSpPr/>
            <p:nvPr/>
          </p:nvSpPr>
          <p:spPr>
            <a:xfrm>
              <a:off x="2438280" y="449568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0" name="Group 3"/>
          <p:cNvGrpSpPr/>
          <p:nvPr/>
        </p:nvGrpSpPr>
        <p:grpSpPr>
          <a:xfrm>
            <a:off x="1236600" y="1766880"/>
            <a:ext cx="6705720" cy="847800"/>
            <a:chOff x="1236600" y="1766880"/>
            <a:chExt cx="6705720" cy="847800"/>
          </a:xfrm>
        </p:grpSpPr>
        <p:sp>
          <p:nvSpPr>
            <p:cNvPr id="341" name="AutoShape 5"/>
            <p:cNvSpPr/>
            <p:nvPr/>
          </p:nvSpPr>
          <p:spPr>
            <a:xfrm>
              <a:off x="3321720" y="223740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AutoShape 23"/>
            <p:cNvSpPr/>
            <p:nvPr/>
          </p:nvSpPr>
          <p:spPr>
            <a:xfrm>
              <a:off x="1236600" y="1766880"/>
              <a:ext cx="6705720" cy="478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K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 (K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3" name="AutoShape 23"/>
          <p:cNvSpPr/>
          <p:nvPr/>
        </p:nvSpPr>
        <p:spPr>
          <a:xfrm>
            <a:off x="3732840" y="1142640"/>
            <a:ext cx="171540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44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45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8" name="Curved Connector 9"/>
          <p:cNvCxnSpPr>
            <a:stCxn id="342" idx="3"/>
            <a:endCxn id="333" idx="0"/>
          </p:cNvCxnSpPr>
          <p:nvPr/>
        </p:nvCxnSpPr>
        <p:spPr>
          <a:xfrm flipH="1">
            <a:off x="5673240" y="2006280"/>
            <a:ext cx="2269440" cy="2461320"/>
          </a:xfrm>
          <a:prstGeom prst="curvedConnector5">
            <a:avLst>
              <a:gd name="adj1" fmla="val -10058"/>
              <a:gd name="adj2" fmla="val 27428"/>
              <a:gd name="adj3" fmla="val -10058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cxnSp>
        <p:nvCxnSpPr>
          <p:cNvPr id="349" name="AutoShape 128"/>
          <p:cNvCxnSpPr>
            <a:stCxn id="336" idx="0"/>
          </p:cNvCxnSpPr>
          <p:nvPr/>
        </p:nvCxnSpPr>
        <p:spPr>
          <a:xfrm flipV="1">
            <a:off x="3886200" y="3276360"/>
            <a:ext cx="838800" cy="47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Group 38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5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53" name="Rectangle 1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2_Indirectly_Associateing_Parameters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KHz   Parameter Value :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1_str: top_mod.param_owner1.clk_freq_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2_str : top_mod.param_owner2.clock_speed_K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ConversionFactor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KHz' of OWNER (2) to 12 (K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34:08Z</dcterms:modified>
  <cp:revision>30</cp:revision>
  <dc:subject/>
  <dc:title>ex12_In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34:07Z</vt:lpwstr>
  </property>
  <property fmtid="{D5CDD505-2E9C-101B-9397-08002B2CF9AE}" pid="5" name="TitusGUID">
    <vt:lpwstr>2047365e-e2e2-4720-a50e-ebed3c959e5e</vt:lpwstr>
  </property>
</Properties>
</file>