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66268-94DD-4A4A-A9B5-B02628B3D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FCF478-9257-4164-86FE-97E30DFD64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11DE91-B2C4-43AE-AB0A-F394DEEB52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1E181-9218-491E-B9A4-6C8FB36A91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F8944-22CA-48AB-A3A8-365DD0572E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50AC0-D556-4755-A2D1-7048F5EBE1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1F60E-B47C-4135-BFFE-321A68CDF4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91A77-42E8-4E98-B3DB-622397821A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8EE42-1C77-4E9C-9F99-344B9646C2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67277-6C52-4B71-82C9-B06AFBF87B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F3684-6E1C-4BA3-96DD-55085777B3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F6042-97E7-4593-B9EF-E33D7C2798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35FEE-43A7-43F0-BF08-7CBAA2FAD4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63286-E172-4AF0-A448-41744009D2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B336B-FE09-4040-B14D-6ADEE63C28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B9D32-19EC-4EE2-9F93-8D2343D94D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0B1EE-5485-4013-AAE5-F0CB4D81BD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A610B-F5F3-4178-8A4E-B6887D84F6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A0212-F3A6-44E5-B11F-1527E51914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DA9584-CB9C-47A8-A96A-605060C1ED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05F49-7EE6-4361-AB32-9A745E2047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0E24B-8F03-468A-B3AB-D30CE45320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184089-CFD1-4822-A382-BBF6BDB9D3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6A38A7-ADC5-4DDB-A5FE-8AA1AC4663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A92A4-435F-4B68-BD51-0470844ECB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DDF89-B4A4-4EF9-A420-320C374FB0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522F4-92D7-467C-B8F3-666CCE2AF0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B36BB-2723-4034-8A82-77A112C031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948E8-195C-4F5A-B01F-D73D91E5DD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6FAD9-F2DA-4089-9E81-98C2464CA1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AD059-B99D-4186-805D-0AE416DB89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BFE06-F8E7-4A5B-85E9-DFB6A3418D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E5B563-34DB-4AC8-A476-31A1B22A82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F8A30-1DC3-4E57-8B70-46D9526938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A2205-7701-457C-B338-AD76561F47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22B6A-6F29-4FF9-B39B-0F41CFEF78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D3EBB-78F2-4019-9E33-433C91AA6E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EC691-95A8-49AB-A769-B70A7C089A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0DD22-5684-4D7C-A018-371D0BCCB9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7BD00-81F2-43EF-9133-C51ADD3F7E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CED17-487D-4C7D-A5C9-0B18EF9FD29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F4D0B-7676-47E1-BFFB-3EE62B1A5D9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82963-0A36-4EAD-B0C6-CE530CC9580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881AD-725B-4F6E-9F0D-B9808F92E51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C3F6D-DEC2-4624-A95C-0843374F32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93826-1D2A-40E7-B422-74E80B449D3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3BDBC-DDD0-4E72-AE30-657EF78D64E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431EB-6CFE-442C-814E-020AEFFFE05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CFE63-ECEB-40C3-95A1-34B188BC68C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3AFDE-A402-45E0-8F36-3080AFFA91F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84598-3C0E-44B2-9EDD-5540E97AA4F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5A9A6-A785-49E1-BD2F-82FFD8ED787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63D3E-EEF0-46A2-B579-072F736301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53CA6-D71A-4C3F-AF6D-AA40CD0324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6E909-11C8-49AC-949F-79AB43FB9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0A368-99FC-43BB-A3A6-6ECA1081C3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BE28B-D110-434B-A125-A31D8C2E2F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EE51F-8110-467B-8E20-953ACF05FD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0A931-21E6-4FAF-A7A1-DD3CE247B2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0A5DAC-A537-454F-B4F3-70EA585808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2D1BDCAE-59E1-490B-8A62-236E6322DB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Tracing Parameter Activity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trieving handle for newly created cci_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Name : param_owner.doubl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has been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Value : 12.3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gistering other callbacks on the newly created cci-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racing Parameter Activ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nfigurator perspective: show how to use the parameter creation callback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Report the creation and modification of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3"/>
          <p:cNvSpPr/>
          <p:nvPr/>
        </p:nvSpPr>
        <p:spPr>
          <a:xfrm>
            <a:off x="609480" y="3733920"/>
            <a:ext cx="2895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34"/>
          <p:cNvSpPr/>
          <p:nvPr/>
        </p:nvSpPr>
        <p:spPr>
          <a:xfrm>
            <a:off x="6095880" y="3733920"/>
            <a:ext cx="2667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37"/>
          <p:cNvSpPr/>
          <p:nvPr/>
        </p:nvSpPr>
        <p:spPr>
          <a:xfrm>
            <a:off x="457200" y="68580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.cpp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estbench fi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8"/>
          <p:cNvSpPr/>
          <p:nvPr/>
        </p:nvSpPr>
        <p:spPr>
          <a:xfrm>
            <a:off x="457200" y="1066680"/>
            <a:ext cx="800100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itialize and register global broker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register_broker(new cci_utils::broker(“My Global Broker”));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antiate the </a:t>
            </a:r>
            <a:r>
              <a:rPr b="0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class (which registers various callbacks to trace cci-parameters 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activities)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ter, instantiate the </a:t>
            </a:r>
            <a:r>
              <a:rPr b="0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_owner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modul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_inst;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                                        // A simple C++ Class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_owner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_owner(“param_owner”);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</a:t>
            </a:r>
            <a:r>
              <a:rPr b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// 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 Owner modul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40"/>
          <p:cNvSpPr/>
          <p:nvPr/>
        </p:nvSpPr>
        <p:spPr>
          <a:xfrm>
            <a:off x="3733920" y="2666880"/>
            <a:ext cx="1752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.cp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8" name="Straight Arrow Connector 43"/>
          <p:cNvCxnSpPr>
            <a:stCxn id="187" idx="2"/>
            <a:endCxn id="183" idx="0"/>
          </p:cNvCxnSpPr>
          <p:nvPr/>
        </p:nvCxnSpPr>
        <p:spPr>
          <a:xfrm flipH="1">
            <a:off x="2057040" y="3047760"/>
            <a:ext cx="25531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Straight Arrow Connector 45"/>
          <p:cNvCxnSpPr>
            <a:stCxn id="187" idx="2"/>
            <a:endCxn id="184" idx="0"/>
          </p:cNvCxnSpPr>
          <p:nvPr/>
        </p:nvCxnSpPr>
        <p:spPr>
          <a:xfrm>
            <a:off x="4610160" y="3047760"/>
            <a:ext cx="282024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0" name="Rectangle 46"/>
          <p:cNvSpPr/>
          <p:nvPr/>
        </p:nvSpPr>
        <p:spPr>
          <a:xfrm>
            <a:off x="228600" y="4267080"/>
            <a:ext cx="4267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OLE 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antiate few cci-paramet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param&lt;int&gt;    *      int_param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param&lt;float&gt; *     float_param;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ake changes to their values during simul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Rectangle 47"/>
          <p:cNvSpPr/>
          <p:nvPr/>
        </p:nvSpPr>
        <p:spPr>
          <a:xfrm>
            <a:off x="4724280" y="4114800"/>
            <a:ext cx="41911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OLE 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t handle for the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lobal broker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callbacks for notifying creation of new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other callback by getting hold of the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 handle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Straight Connector 28"/>
          <p:cNvSpPr/>
          <p:nvPr/>
        </p:nvSpPr>
        <p:spPr>
          <a:xfrm flipH="1">
            <a:off x="7237440" y="41148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Straight Connector 28"/>
          <p:cNvSpPr/>
          <p:nvPr/>
        </p:nvSpPr>
        <p:spPr>
          <a:xfrm>
            <a:off x="2286000" y="4191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ectangle 13"/>
          <p:cNvSpPr/>
          <p:nvPr/>
        </p:nvSpPr>
        <p:spPr>
          <a:xfrm>
            <a:off x="2666880" y="114300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Straight Connector 28"/>
          <p:cNvSpPr/>
          <p:nvPr/>
        </p:nvSpPr>
        <p:spPr>
          <a:xfrm flipH="1">
            <a:off x="1598760" y="1676520"/>
            <a:ext cx="144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2971800" y="1828800"/>
            <a:ext cx="58672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t global broker 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originator observer_originator("observer")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broker_handle(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get_global_broker(observer_originator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2819520" y="3733920"/>
            <a:ext cx="624816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a callback to notify the creation of cci-parameters of the parameter_owner modules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m_broker.register_crea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c_bind(&amp;ex20_observer::config_new_param_callback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his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c_unnamed::_1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33"/>
          <p:cNvSpPr/>
          <p:nvPr/>
        </p:nvSpPr>
        <p:spPr>
          <a:xfrm>
            <a:off x="152280" y="914400"/>
            <a:ext cx="2895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00600" y="1600200"/>
            <a:ext cx="3581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Various other callbacks registratio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Straight Connector 28"/>
          <p:cNvSpPr/>
          <p:nvPr/>
        </p:nvSpPr>
        <p:spPr>
          <a:xfrm flipH="1">
            <a:off x="1598760" y="1676520"/>
            <a:ext cx="144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2057400" y="2057400"/>
            <a:ext cx="7010280" cy="373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ithin the callback implementation of the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fig_new_param_callback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function, register other callback functions for monitoring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ad, writ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activities on to the cci-parameter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// Get reference of newly created cci-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base_handle = m_broker.get_param_handle(param_handle.get_name(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// Register pre-read, pre/post-write callbac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re_read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re_read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re_wri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re_write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ost_wri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ost_write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2743200" y="10666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2895480" y="114300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380880" y="1676520"/>
            <a:ext cx="44960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t default value to the integer-type cci-parameter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  =  new cci::cnf::cci_param&lt;int&gt;(“int_param”, 10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4724280" y="2514600"/>
            <a:ext cx="3733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 has been create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4724280" y="3276720"/>
            <a:ext cx="37339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trieve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andle for the ‘int_param’ cci-parameter 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d stores it to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4724280" y="411480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read callback using </a:t>
            </a: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new_param_handle</a:t>
            </a:r>
            <a:br>
              <a:rPr sz="1400"/>
            </a:b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write callback using new_param_handle</a:t>
            </a:r>
            <a:br>
              <a:rPr sz="1400"/>
            </a:b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ost_write callback using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3505320" y="11430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0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380880" y="1752480"/>
            <a:ext cx="3048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t  (arbitrary) new value to the </a:t>
            </a:r>
            <a:r>
              <a:rPr b="0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*int_param = 15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Rectangle 15"/>
          <p:cNvSpPr/>
          <p:nvPr/>
        </p:nvSpPr>
        <p:spPr>
          <a:xfrm>
            <a:off x="4648320" y="2362320"/>
            <a:ext cx="403848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read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write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read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st_write activity on the ‘int_param’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15"/>
          <p:cNvSpPr/>
          <p:nvPr/>
        </p:nvSpPr>
        <p:spPr>
          <a:xfrm>
            <a:off x="4191120" y="4419720"/>
            <a:ext cx="243828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75" y="2492"/>
                </a:moveTo>
                <a:lnTo>
                  <a:pt x="-5330" y="2492"/>
                </a:lnTo>
                <a:lnTo>
                  <a:pt x="-5330" y="-8688"/>
                </a:lnTo>
                <a:lnTo>
                  <a:pt x="8466" y="-21392"/>
                </a:lnTo>
              </a:path>
              <a:path w="21600" h="21600">
                <a:moveTo>
                  <a:pt x="-675" y="0"/>
                </a:moveTo>
                <a:lnTo>
                  <a:pt x="-675" y="216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re_read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callback is called because value of the parameter is read within th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pre_write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post_write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callbac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Rectangle 15"/>
          <p:cNvSpPr/>
          <p:nvPr/>
        </p:nvSpPr>
        <p:spPr>
          <a:xfrm>
            <a:off x="380880" y="1676520"/>
            <a:ext cx="5029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reate and set default value to the float-type cci-parameter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oat_param  =  new cci::cnf::cci_param&lt;int&gt;(“float_param”, 12.345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4724280" y="2514600"/>
            <a:ext cx="3733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oat_param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 has been create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4724280" y="3276720"/>
            <a:ext cx="38862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trieve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andle for the ‘float_param’ cci-parameter 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d stores it to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Rectangle 15"/>
          <p:cNvSpPr/>
          <p:nvPr/>
        </p:nvSpPr>
        <p:spPr>
          <a:xfrm>
            <a:off x="4724280" y="411480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read callback using </a:t>
            </a: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new_param_handle</a:t>
            </a:r>
            <a:br>
              <a:rPr sz="1400"/>
            </a:b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write callback using new_param_handle</a:t>
            </a:r>
            <a:br>
              <a:rPr sz="1400"/>
            </a:b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ost_write callback using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3657600" y="11430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5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20_Tracing_Parameter_Activity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Creating new integer type cci-parameter with default value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trieving handle for newly created cci_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has been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gistering other callbacks on the newly created cci-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Setting new value to the 'int' type param to '15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re_write_cb] : Retrieving details of new cci-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re_write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ost_write_cb] : Retrieving details of new cci-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ost_write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Creating new 'double' type cci-parameter with default value : 12.3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01:25:28Z</dcterms:modified>
  <cp:revision>82</cp:revision>
  <dc:subject/>
  <dc:title>ex20_Tracing_Parameter_Acti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1:25:27Z</vt:lpwstr>
  </property>
  <property fmtid="{D5CDD505-2E9C-101B-9397-08002B2CF9AE}" pid="5" name="TitusGUID">
    <vt:lpwstr>c510a3f5-05aa-41bf-bec3-42483cac079d</vt:lpwstr>
  </property>
</Properties>
</file>