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CC059-5D91-4B13-997A-6C3B413AB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464C6-075F-4BCD-9E60-3EBBF4687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B6C63-2FAB-4297-8812-39BDA7349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D7657-C64C-4F11-8201-EDC3ADA3B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7A87C-3289-4EB5-B375-D17F1220C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5D66E-A354-438C-8B44-440284452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E6D52-5FBA-4D7A-A0C2-363F894D4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B5FAF-CE8F-4530-8297-7564D4914B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72484-0515-4821-A22F-2F7CBAEDE7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EB437-071A-4679-89D0-8DF98BAF9D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CEE57-7428-4BDE-8963-AC7E5143F5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C40C6-26D8-45AA-AB02-915AE3ADF6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87D4F-850F-43B7-8B69-168ACAB741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2876A-FAC7-4293-94F4-CED0A83FDF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25AC2-8664-4BA6-9E31-7229E6DD9C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7D389-8923-4C33-9D1F-BEA27B4C8A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967E6-1135-470D-80E1-8C24413122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E96FA-73E5-414A-9234-1795F0DDE7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23C3A-338A-4637-A464-7987774F56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253C3-A225-4A1E-9E71-D162FD9169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arch Predicate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OSCI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nal Podd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vember 201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Search Predicat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wner module simple_ip has CCI parameters of different data typ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module search_ip performs various searches and reports the matching paramete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is example, module search_ip performs the following parameter search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3960" indent="-248040" algn="just">
              <a:spcBef>
                <a:spcPts val="499"/>
              </a:spcBef>
              <a:buClr>
                <a:srgbClr val="0000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er value ty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3960" indent="-248040" algn="just">
              <a:spcBef>
                <a:spcPts val="499"/>
              </a:spcBef>
              <a:buClr>
                <a:srgbClr val="0000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ing value ty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3960" indent="-248040" algn="just">
              <a:spcBef>
                <a:spcPts val="499"/>
              </a:spcBef>
              <a:buClr>
                <a:srgbClr val="0000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value greater than or equal to 3 and smaller than 8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3960" indent="-248040" algn="just">
              <a:spcBef>
                <a:spcPts val="499"/>
              </a:spcBef>
              <a:buClr>
                <a:srgbClr val="0000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 name contains the character ‘t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br>
              <a:rPr sz="3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CI parameters representing basic data types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1787400" y="1322280"/>
            <a:ext cx="1989360" cy="4366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3" name="Straight Arrow Connector 16"/>
          <p:cNvCxnSpPr>
            <a:stCxn id="92" idx="2"/>
          </p:cNvCxnSpPr>
          <p:nvPr/>
        </p:nvCxnSpPr>
        <p:spPr>
          <a:xfrm flipH="1">
            <a:off x="2775960" y="1758600"/>
            <a:ext cx="684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4" name="Folded Corner 41"/>
          <p:cNvSpPr/>
          <p:nvPr/>
        </p:nvSpPr>
        <p:spPr>
          <a:xfrm>
            <a:off x="3062160" y="2081160"/>
            <a:ext cx="3048120" cy="157644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bool&gt; bool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ci_param&lt;char&gt; char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unsigned char&gt; uchar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int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unsigned int&gt; uint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cci_param&lt;float&gt; float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ci_param&lt;double&gt; double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std::string&gt; string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ounded Rectangular Callout 44"/>
          <p:cNvSpPr/>
          <p:nvPr/>
        </p:nvSpPr>
        <p:spPr>
          <a:xfrm>
            <a:off x="449280" y="5342040"/>
            <a:ext cx="2173320" cy="58896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CCI parameter ‘Owner’ module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br>
              <a:rPr sz="3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The search_ip module which search sim_ip’s parameter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13"/>
          <p:cNvSpPr/>
          <p:nvPr/>
        </p:nvSpPr>
        <p:spPr>
          <a:xfrm>
            <a:off x="1787400" y="1143000"/>
            <a:ext cx="1989360" cy="4046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arch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8" name="Straight Arrow Connector 16"/>
          <p:cNvCxnSpPr>
            <a:stCxn id="97" idx="2"/>
          </p:cNvCxnSpPr>
          <p:nvPr/>
        </p:nvCxnSpPr>
        <p:spPr>
          <a:xfrm flipH="1">
            <a:off x="2775960" y="1547640"/>
            <a:ext cx="6840" cy="4384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9" name="Folded Corner 41"/>
          <p:cNvSpPr/>
          <p:nvPr/>
        </p:nvSpPr>
        <p:spPr>
          <a:xfrm>
            <a:off x="3062160" y="2792520"/>
            <a:ext cx="5753160" cy="41580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Integers only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bool integer_type_predicate(const cci_param_untyped_handle handle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Rounded Rectangular Callout 44"/>
          <p:cNvSpPr/>
          <p:nvPr/>
        </p:nvSpPr>
        <p:spPr>
          <a:xfrm>
            <a:off x="449280" y="5342040"/>
            <a:ext cx="2173320" cy="58896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Searches simple_ip’s parameter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Folded Corner 41"/>
          <p:cNvSpPr/>
          <p:nvPr/>
        </p:nvSpPr>
        <p:spPr>
          <a:xfrm>
            <a:off x="3062160" y="3514680"/>
            <a:ext cx="5753160" cy="41580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tring only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bool string_type_predicate(const cci_param_untyped_handle handle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Folded Corner 41"/>
          <p:cNvSpPr/>
          <p:nvPr/>
        </p:nvSpPr>
        <p:spPr>
          <a:xfrm>
            <a:off x="3062160" y="4210200"/>
            <a:ext cx="5753160" cy="56988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Numbers greater that or equal to 3 and smaller than 85 only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l value_in_range_predicate(const cci_param_untyped_handle handle, double greater_eq, double lower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Folded Corner 41"/>
          <p:cNvSpPr/>
          <p:nvPr/>
        </p:nvSpPr>
        <p:spPr>
          <a:xfrm>
            <a:off x="3062160" y="5067360"/>
            <a:ext cx="5753160" cy="56988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Parameter name contains at least ‘t’ only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l name_contains_character_predicate( const cci_param_untyped_handle handle, const char character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Folded Corner 41"/>
          <p:cNvSpPr/>
          <p:nvPr/>
        </p:nvSpPr>
        <p:spPr>
          <a:xfrm>
            <a:off x="3062160" y="2068560"/>
            <a:ext cx="5753160" cy="41580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Original List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plays the original list of parameters in simple_ip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ex22_Search_Predicate.log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80880" y="927000"/>
            <a:ext cx="868680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bool_param is 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char_param is 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uchar_param is U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int_param is -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uint_param is 0xfeedf00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float_param is 3.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double_param is 2.7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string_param is C++ Str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c_main: Begin Simulation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Original lis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bool_param = tru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char_param = 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double_param = 2.7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float_param = 3.14000010490417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int_param = -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string_param = "C++ String“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char_param = 8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int_param = 427700634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5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8088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Integers on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char_param = 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int_param = -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char_param = 8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int_param = 427700634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String on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string_param = "C++ String"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Numbers greater than or equal to 3 and smaller than 85 on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char_param = 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float_param = 3.14000010490417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Parameter name contains at least 't' on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float_param = 3.14000010490417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int_param = -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string_param = "C++ String"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int_param = 427700634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c_main: End Simulation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2-17T15:52:42Z</dcterms:modified>
  <cp:revision>184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5:52:42Z</vt:lpwstr>
  </property>
  <property fmtid="{D5CDD505-2E9C-101B-9397-08002B2CF9AE}" pid="5" name="TitusGUID">
    <vt:lpwstr>9e508fab-0d4d-42f6-bb4e-875dc6a2e392</vt:lpwstr>
  </property>
</Properties>
</file>