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F0A0A-0CDB-4FFB-BB3D-2D0CADD79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0DA04-4AF4-4724-AC56-225DE1C884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A21D6-6AEC-4F45-80B7-8B69A6321D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7E14F-1045-4105-822E-55BB630AE4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02C09-47DB-4199-B0A0-1D8064C946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B639D-CA0A-4608-8321-F15B9CF0D9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14284-AA08-4C34-BFD0-639946BAF5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B51DD-994E-4475-B3FE-8A384D6F32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11BED-BBF0-4D2E-BC02-6D802B0386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B3354-952B-4A1A-BAA4-2D486F5E2B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1A1A5-ECE0-44AA-A205-95DB4487D8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A3BFF-FF00-456A-BC09-E6C3C9BA6B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312B0-F14D-4235-B28C-1675157C95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289D8-4931-4BAD-AD4F-700D1B7CEA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BB81-B2AF-4D58-894E-E974DEDFC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ABB6-0964-40DC-AE94-0F2D8ECC8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384D5-E979-4926-9E8D-5E82EA3A4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8829-C694-4CF5-A129-7E94FE200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F863-0409-4F33-9CE9-66AB3A710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3D06D-9405-4C8D-B6C4-EA9D703F2C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6AFCD-A14E-422F-8610-C402F398B8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4F003-048E-47A7-8287-1530B124AF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1F774-7CA5-4E4C-850E-0C403144F7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18455-92D5-4C69-9021-1B883C2AB5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E4DF-3846-490E-8AC8-1A8B885718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55710-8098-4124-B871-CC9B7BD130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DED82-CEEA-421F-86FD-353833E206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C7BB4-6BD7-4510-BBF9-3CE71B40E3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3FFC6-C16D-4DE4-B7EC-21668F464C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ADB22-01B5-41A7-A317-2F22FD9757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6438F-7CA8-4ECA-8F64-1463A46A39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20B0B-3186-452C-B579-1B30727E2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BA9C-1210-4C2A-9F48-B7E1D778C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98BE-A371-4AA2-905C-65F555939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AF03-F3DE-4F69-9FB9-843D9995D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C6AC-9947-4EDA-9DB5-2705E6CA0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7994-0401-404C-A45C-73855DDB7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FB88-7F2C-4015-B14A-05BA9243A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A2D02-DE03-408E-B80D-18395E3047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279511DD-E7A5-447B-A69D-121CB0E152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6:03:05Z</dcterms:modified>
  <cp:revision>85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6:03:05Z</vt:lpwstr>
  </property>
  <property fmtid="{D5CDD505-2E9C-101B-9397-08002B2CF9AE}" pid="5" name="TitusGUID">
    <vt:lpwstr>522d689a-30a7-4b0c-9d2d-5977e3992383</vt:lpwstr>
  </property>
</Properties>
</file>