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5AE75-8916-4883-BB68-67510E1B24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3E9B1-9F02-42FE-8943-0D7997A4A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EAE63-EB82-4758-BAF6-004C117FC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70FCD-E5A7-4D04-8A35-1603D2807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6E34D-5C3D-452E-8348-87E77FE722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234D8-F175-48BD-B43F-0B7AE5D736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B5DB5-1A61-4EEE-A1DC-66359FA0B6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C15A1-7732-46A8-B5D8-16A0D39CA9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9BB0C-5B55-4D19-956D-640CA888B7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DB6A9-30A5-40AD-A98F-888D2B5284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F932B-4376-4C07-9C2F-B91003E3A7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E4EB7-D174-4F19-BAAD-BDBD01B163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0F8B2-0B08-4A9E-83F4-6F01C7B583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A2195-1D37-4851-9008-1AE3381486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CA803-AEA6-4A5D-B9B4-C99BFDCF9C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F3B6B-9707-43E2-B5A7-C76142E55A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F7BC7-566B-482E-8EF2-4D8685600A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Charles Wilson</cp:lastModifiedBy>
  <cp:lastPrinted>2008-06-04T21:47:01Z</cp:lastPrinted>
  <dcterms:modified xsi:type="dcterms:W3CDTF">2008-06-05T21:29:01Z</dcterms:modified>
  <cp:revision>86</cp:revision>
  <dc:subject/>
  <dc:title>AT Basic System Example</dc:title>
</cp:coreProperties>
</file>