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3FBF-2039-4776-B24B-AD84F15F7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8C00-BFCE-4E96-B2D2-207A7FE8C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9513-55C9-4A4C-88CD-DEF726045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6D56-3118-4DDF-B8B8-B736F99D2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92F5-34C3-4F76-A43E-51E01952F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DD38-B413-4D28-8174-6EC743942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22DB-2343-48AF-8D7A-539F08F6D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02B9-D27E-48D4-BCB6-5575D2CFE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C696-24B1-47CC-9299-D33715E41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A1D1-952B-419D-984D-AEB4AB6F5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7843-940C-473F-AB3D-49BBC9646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081B-36E3-4DB5-B4AA-5AFEABA8B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02EAB-0338-453E-BC40-3647273F6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B139B-80AE-42E0-96A5-19E861683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41DD-40DC-4CBC-B454-6219AD3FA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745D-8CFA-4CDA-B213-7495275E4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ADF7-3A5B-4E0D-8CB0-9E321E93D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4F0E-8433-4F4F-A586-8436A6766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-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1000" y="1027080"/>
            <a:ext cx="4937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2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3200" y="1647720"/>
            <a:ext cx="5085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8-06-04T21:38:24Z</dcterms:modified>
  <cp:revision>84</cp:revision>
  <dc:subject/>
  <dc:title>AT Basic System Example</dc:title>
</cp:coreProperties>
</file>