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8BD5-8A9C-4E05-985C-A992FD7D4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4CE2-11B9-4816-AA57-9EB25CC23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F003-5713-49A8-BCE6-620F6D842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FCB6-D5CB-4167-8439-39B2A6241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D545-1826-4CED-AD70-FD6A75099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1E724-2A07-4816-AB73-F853A9768F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FF287-F51B-43B8-84A0-E141BB87C4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2FCBD-75C3-4FA8-BBB6-B4294F035B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42A25-2407-4517-B835-78576EDEB5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51DFE-A105-4437-80D6-F3ADB6D64E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E8EE2-B126-472E-814C-E6700B6772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E7085-D6EF-4504-BA6E-CCF8F8A667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31400-3966-4BF8-9151-CA106E880A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7CA4B-D67D-4BDD-BFA8-FBD641D75F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56662-4DC1-41C0-9608-A70BEF88AA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C3D68-046C-4678-A094-0AF652DD95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C5B88-529C-45A0-9EB1-0C410CE59B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E04F-E5EA-4212-96F6-94A09B627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5744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Charles Wilson</cp:lastModifiedBy>
  <dcterms:modified xsi:type="dcterms:W3CDTF">2008-06-02T13:26:47Z</dcterms:modified>
  <cp:revision>81</cp:revision>
  <dc:subject/>
  <dc:title>AT Basic System Example</dc:title>
</cp:coreProperties>
</file>