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83479-1785-431E-B504-2483C310B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ED045-96AF-435B-9022-D126C12E30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16460-77BB-4F4D-8A74-CBDAC41B3C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8B2D1-8EB5-4D56-8ED3-27750366EC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B40A3-2079-4A07-810E-A8223F1AF2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414A3-6566-486F-85A6-9444BA601A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2191B-F772-4EDB-8BA4-13EC23AE8A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288D5-516D-49F2-A5F5-D4BFE8B487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B72FE-9831-450C-8DD9-85A12AA39E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C4A0C-5CCB-46CF-9F60-0D0425BAD8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A7717-F42C-4C7D-88D8-12A783CD93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A5F6C-C912-48C6-8D07-727085F6C5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35835-6405-4936-A4CE-611136F1B0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115F7-2B2D-4367-807C-B3210C78C3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6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7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8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9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2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3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4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5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6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0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1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5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6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7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0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1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3" name=""/>
            <p:cNvCxnSpPr>
              <a:stCxn id="28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5" name=""/>
            <p:cNvCxnSpPr>
              <a:endCxn id="28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7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9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0" name=""/>
            <p:cNvCxnSpPr>
              <a:stCxn id="28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1" name=""/>
            <p:cNvCxnSpPr>
              <a:stCxn id="28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2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3" name=""/>
            <p:cNvCxnSpPr>
              <a:stCxn id="29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4" name=""/>
            <p:cNvCxnSpPr>
              <a:stCxn id="29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5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6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0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4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8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and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4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7" idx="0"/>
            <a:endCxn id="13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40" idx="2"/>
            <a:endCxn id="14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2" name=""/>
          <p:cNvCxnSpPr>
            <a:stCxn id="140" idx="0"/>
            <a:endCxn id="14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4" name=""/>
          <p:cNvCxnSpPr>
            <a:stCxn id="145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6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8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49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52" idx="2"/>
            <a:endCxn id="15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"/>
          <p:cNvCxnSpPr>
            <a:stCxn id="152" idx="0"/>
            <a:endCxn id="15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8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59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1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4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6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7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8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1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2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3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4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7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8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9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2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"/>
          <p:cNvCxnSpPr>
            <a:stCxn id="185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7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36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"/>
          <p:cNvCxnSpPr>
            <a:stCxn id="237" idx="1"/>
            <a:endCxn id="236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39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0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"/>
          <p:cNvCxnSpPr>
            <a:stCxn id="242" idx="1"/>
            <a:endCxn id="236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5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Jack Donovan</cp:lastModifiedBy>
  <dcterms:modified xsi:type="dcterms:W3CDTF">2008-06-05T21:45:26Z</dcterms:modified>
  <cp:revision>77</cp:revision>
  <dc:subject/>
  <dc:title>AT Basic System Example</dc:title>
</cp:coreProperties>
</file>